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B8024-B747-4CF2-BC80-1CE6E9F98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2DECD-9004-4691-999B-93E04D6BA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25CA1-1585-4A95-88C3-2686196A4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1E30D-1196-4B05-8AB8-A60D040C9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71077-1EDE-4203-81B0-F37671A95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1A949-7F2B-423A-B867-BE9E80BD9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BC946-F01F-414D-B9CB-C87DDC5EF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57907-4316-44DF-B8F4-18B8A546B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3D17A-2FB1-4BD1-8846-34FFAFF99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6BB44-E911-4E99-B0B4-128A02336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0D94D-C2BB-4A39-B5A4-613114AAC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D84B0-9F8F-4767-9A66-3A724106B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5752F-F523-4580-AC39-5E50D0A5A2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Times New Roman"/>
              </a:rPr>
              <a:t>Стоматологија</a:t>
            </a:r>
            <a:r>
              <a:rPr b="0" lang="it-IT" sz="4400" spc="-1" strike="noStrike">
                <a:solidFill>
                  <a:srgbClr val="000000"/>
                </a:solidFill>
                <a:latin typeface="Times New Roman"/>
              </a:rPr>
              <a:t> заснована на доказима </a:t>
            </a:r>
            <a:r>
              <a:rPr b="0" lang="sr-CS" sz="4400" spc="-1" strike="noStrike">
                <a:solidFill>
                  <a:srgbClr val="000000"/>
                </a:solidFill>
                <a:latin typeface="Times New Roman"/>
              </a:rPr>
              <a:t>– 4. недеља</a:t>
            </a:r>
            <a:r>
              <a:rPr b="0" lang="it-IT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проф. др Слободан Јанковић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4"/>
          <p:cNvSpPr/>
          <p:nvPr/>
        </p:nvSpPr>
        <p:spPr>
          <a:xfrm>
            <a:off x="1330920" y="1996920"/>
            <a:ext cx="6628680" cy="16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ВАЛИДНОСТ И ЗНАЧАЈНОСТ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ДИЈАГНОСТИЧКОГ ТЕСТ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Times New Roman"/>
              </a:rPr>
              <a:t>Да ли је ова дијагностичка студија валидна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Да ли је било независно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слепог упоређења с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“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ЗЛАТНИМ СТАНДАРДОМ дијагнозе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Да ли је дијагностички тест испитан на одговарајућем спектру пацијенат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сличног оном у стварном животу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Да ли је златни стандард употребљен независно од резултата дијагностичког тест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Резултати студије о дијагностичком тесту су корисни ако је дијагностички тест примењен на болесницима са благом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али и тешком болешћу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на болесницима у раној и касној фази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на нелеченим и леченим болесницим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као и на здравим особам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Такође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корисно је да тест буде примењен и на болесницима са болестима које су сличне оној која се испитује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Times New Roman"/>
              </a:rPr>
              <a:t>Да ли су докази о дијагностичком тесту клинички значајни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Дијагностички тестови који стварају велику разлику између вероватноће пре и после теста су значајни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Сензитивност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проценат болесника код којих је тест позитива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Специфичност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проценат здравих особа код којих је тест негатива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Значајност клиничког тест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600200"/>
          <a:ext cx="8229600" cy="4699080"/>
        </p:xfrm>
        <a:graphic>
          <a:graphicData uri="http://schemas.openxmlformats.org/drawingml/2006/table">
            <a:tbl>
              <a:tblPr/>
              <a:tblGrid>
                <a:gridCol w="1646280"/>
                <a:gridCol w="1646280"/>
                <a:gridCol w="1644480"/>
                <a:gridCol w="1646280"/>
                <a:gridCol w="1646280"/>
              </a:tblGrid>
              <a:tr h="825480">
                <a:tc gridSpan="2"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1224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ољење (хипохромна анемиј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1224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купн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2240">
                      <a:solidFill>
                        <a:srgbClr val="333333"/>
                      </a:solidFill>
                    </a:lnR>
                    <a:lnT w="1224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</a:tr>
              <a:tr h="9144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сут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дсут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26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зултат</a:t>
                      </a: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јагности</a:t>
                      </a: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</a:t>
                      </a: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г тес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еритин у серуму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zitivan (&lt;65mM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31     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27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 + </a:t>
                      </a: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224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</a:tr>
              <a:tr h="1009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gativan (&gt;65mM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8      </a:t>
                      </a: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1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+ </a:t>
                      </a: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7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224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</a:tr>
              <a:tr h="10375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купн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2240">
                      <a:solidFill>
                        <a:srgbClr val="333333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 + </a:t>
                      </a: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224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+ </a:t>
                      </a: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7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224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 + </a:t>
                      </a: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+ </a:t>
                      </a: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+ </a:t>
                      </a: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7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224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2240">
                      <a:solidFill>
                        <a:srgbClr val="333333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Значајност клиничког тест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Сензитивност = а/(а+ц) = 731/809 = 90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Специфичност = д/(б+д) =1500/1770= 85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Однос могућности (ликелихоод ратио) за позитиван исход теста= ОМ+=сенз/(1-спец)=90%/15%=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Однос могућности (ликелихоод ратио) за негативан исход теста=ОМ-=(1-сенз)/спец=10%/85%=0.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Позитивна вредност предвиђања=а/(а+б)=731/1001=73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Times New Roman"/>
              </a:rPr>
              <a:t>Негативна вредност предвиђањ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sv-SE" sz="2000" spc="-1" strike="noStrike">
                <a:solidFill>
                  <a:srgbClr val="000000"/>
                </a:solidFill>
                <a:latin typeface="Times New Roman"/>
              </a:rPr>
              <a:t>д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(</a:t>
            </a:r>
            <a:r>
              <a:rPr b="0" lang="sv-SE" sz="2000" spc="-1" strike="noStrike">
                <a:solidFill>
                  <a:srgbClr val="000000"/>
                </a:solidFill>
                <a:latin typeface="Times New Roman"/>
              </a:rPr>
              <a:t>ц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sv-SE" sz="2000" spc="-1" strike="noStrike">
                <a:solidFill>
                  <a:srgbClr val="000000"/>
                </a:solidFill>
                <a:latin typeface="Times New Roman"/>
              </a:rPr>
              <a:t>д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=1500/1578=95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Преваленца=(а+ц)/(а+б+ц+д)=809/2579=32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Однос пре тест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пре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тест оддс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=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преваленц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(1-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преваленц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=31%/69%=0.4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Однос после теста (пост-тест оддс) =однос пре теста x однос могућност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Вероватноћа после тест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однос после тест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(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однос после тест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Да ли валидни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значајни дијагностички тест може да се примени код нашег пацијент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Да ли је тест доступа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да ли болесник може да га плат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да ли је тачан и прецизан у нашим условим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Да ли можете имати прихватљиву процену вероватноће пре теста за вашег болесник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Из ваше пракс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Из личног искуств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Из литератур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Из клиничке спекулациј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Да ли ће вероватноћа после теста утицати на лечење вашег болесник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Да ли ће утицати на одлуку о врсти третмана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Да ли ће пацијент прихватити третмане који долазе у обзир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Times New Roman"/>
              </a:rPr>
              <a:t>Колико утиче однос могућности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" name="Group 4"/>
          <p:cNvGrpSpPr/>
          <p:nvPr/>
        </p:nvGrpSpPr>
        <p:grpSpPr>
          <a:xfrm>
            <a:off x="214200" y="2637000"/>
            <a:ext cx="8715240" cy="2295360"/>
            <a:chOff x="214200" y="2637000"/>
            <a:chExt cx="8715240" cy="2295360"/>
          </a:xfrm>
        </p:grpSpPr>
        <p:grpSp>
          <p:nvGrpSpPr>
            <p:cNvPr id="57" name="Group 5"/>
            <p:cNvGrpSpPr/>
            <p:nvPr/>
          </p:nvGrpSpPr>
          <p:grpSpPr>
            <a:xfrm>
              <a:off x="219240" y="2641680"/>
              <a:ext cx="8704080" cy="2286000"/>
              <a:chOff x="219240" y="2641680"/>
              <a:chExt cx="8704080" cy="2286000"/>
            </a:xfrm>
          </p:grpSpPr>
          <p:grpSp>
            <p:nvGrpSpPr>
              <p:cNvPr id="58" name="Group 6"/>
              <p:cNvGrpSpPr/>
              <p:nvPr/>
            </p:nvGrpSpPr>
            <p:grpSpPr>
              <a:xfrm>
                <a:off x="219240" y="2641680"/>
                <a:ext cx="5142960" cy="457200"/>
                <a:chOff x="219240" y="2641680"/>
                <a:chExt cx="5142960" cy="457200"/>
              </a:xfrm>
            </p:grpSpPr>
            <p:sp>
              <p:nvSpPr>
                <p:cNvPr id="59" name="Rectangle 7"/>
                <p:cNvSpPr/>
                <p:nvPr/>
              </p:nvSpPr>
              <p:spPr>
                <a:xfrm>
                  <a:off x="219240" y="2641680"/>
                  <a:ext cx="514296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LRs </a:t>
                  </a:r>
                  <a:r>
                    <a:rPr b="0" lang="sr-CS" sz="2400" spc="-1" strike="noStrike">
                      <a:solidFill>
                        <a:srgbClr val="000000"/>
                      </a:solidFill>
                      <a:latin typeface="Times New Roman"/>
                    </a:rPr>
                    <a:t>већи од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10 </a:t>
                  </a:r>
                  <a:r>
                    <a:rPr b="0" lang="sr-CS" sz="2400" spc="-1" strike="noStrike">
                      <a:solidFill>
                        <a:srgbClr val="000000"/>
                      </a:solidFill>
                      <a:latin typeface="Times New Roman"/>
                    </a:rPr>
                    <a:t>или мањи од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 0.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" name="Rectangle 8"/>
                <p:cNvSpPr/>
                <p:nvPr/>
              </p:nvSpPr>
              <p:spPr>
                <a:xfrm>
                  <a:off x="219240" y="2641680"/>
                  <a:ext cx="5142960" cy="457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" name="Group 9"/>
              <p:cNvGrpSpPr/>
              <p:nvPr/>
            </p:nvGrpSpPr>
            <p:grpSpPr>
              <a:xfrm>
                <a:off x="5362560" y="2641680"/>
                <a:ext cx="3560760" cy="457200"/>
                <a:chOff x="5362560" y="2641680"/>
                <a:chExt cx="3560760" cy="457200"/>
              </a:xfrm>
            </p:grpSpPr>
            <p:sp>
              <p:nvSpPr>
                <p:cNvPr id="62" name="Rectangle 10"/>
                <p:cNvSpPr/>
                <p:nvPr/>
              </p:nvSpPr>
              <p:spPr>
                <a:xfrm>
                  <a:off x="5362560" y="2641680"/>
                  <a:ext cx="356076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r-CS" sz="2400" spc="-1" strike="noStrike">
                      <a:solidFill>
                        <a:srgbClr val="000000"/>
                      </a:solidFill>
                      <a:latin typeface="Times New Roman"/>
                    </a:rPr>
                    <a:t>Изазива велике промене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Rectangle 11"/>
                <p:cNvSpPr/>
                <p:nvPr/>
              </p:nvSpPr>
              <p:spPr>
                <a:xfrm>
                  <a:off x="5362560" y="2641680"/>
                  <a:ext cx="3560760" cy="457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" name="Group 12"/>
              <p:cNvGrpSpPr/>
              <p:nvPr/>
            </p:nvGrpSpPr>
            <p:grpSpPr>
              <a:xfrm>
                <a:off x="219240" y="3098880"/>
                <a:ext cx="5142960" cy="457200"/>
                <a:chOff x="219240" y="3098880"/>
                <a:chExt cx="5142960" cy="457200"/>
              </a:xfrm>
            </p:grpSpPr>
            <p:sp>
              <p:nvSpPr>
                <p:cNvPr id="65" name="Rectangle 13"/>
                <p:cNvSpPr/>
                <p:nvPr/>
              </p:nvSpPr>
              <p:spPr>
                <a:xfrm>
                  <a:off x="219240" y="3098880"/>
                  <a:ext cx="514296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LRs 5 - 10 </a:t>
                  </a:r>
                  <a:r>
                    <a:rPr b="0" lang="sr-CS" sz="2400" spc="-1" strike="noStrike">
                      <a:solidFill>
                        <a:srgbClr val="000000"/>
                      </a:solidFill>
                      <a:latin typeface="Times New Roman"/>
                    </a:rPr>
                    <a:t>или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 0.1 - 0.2 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Rectangle 14"/>
                <p:cNvSpPr/>
                <p:nvPr/>
              </p:nvSpPr>
              <p:spPr>
                <a:xfrm>
                  <a:off x="219240" y="3098880"/>
                  <a:ext cx="5142960" cy="457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" name="Group 15"/>
              <p:cNvGrpSpPr/>
              <p:nvPr/>
            </p:nvGrpSpPr>
            <p:grpSpPr>
              <a:xfrm>
                <a:off x="5362560" y="3098880"/>
                <a:ext cx="3560760" cy="457200"/>
                <a:chOff x="5362560" y="3098880"/>
                <a:chExt cx="3560760" cy="457200"/>
              </a:xfrm>
            </p:grpSpPr>
            <p:sp>
              <p:nvSpPr>
                <p:cNvPr id="68" name="Rectangle 16"/>
                <p:cNvSpPr/>
                <p:nvPr/>
              </p:nvSpPr>
              <p:spPr>
                <a:xfrm>
                  <a:off x="5362560" y="3098880"/>
                  <a:ext cx="356076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r-CS" sz="2400" spc="-1" strike="noStrike">
                      <a:solidFill>
                        <a:srgbClr val="000000"/>
                      </a:solidFill>
                      <a:latin typeface="Times New Roman"/>
                    </a:rPr>
                    <a:t>Изазива умерене промене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" name="Rectangle 17"/>
                <p:cNvSpPr/>
                <p:nvPr/>
              </p:nvSpPr>
              <p:spPr>
                <a:xfrm>
                  <a:off x="5362560" y="3098880"/>
                  <a:ext cx="3560760" cy="457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" name="Group 18"/>
              <p:cNvGrpSpPr/>
              <p:nvPr/>
            </p:nvGrpSpPr>
            <p:grpSpPr>
              <a:xfrm>
                <a:off x="219240" y="3556080"/>
                <a:ext cx="5142960" cy="457200"/>
                <a:chOff x="219240" y="3556080"/>
                <a:chExt cx="5142960" cy="457200"/>
              </a:xfrm>
            </p:grpSpPr>
            <p:sp>
              <p:nvSpPr>
                <p:cNvPr id="71" name="Rectangle 19"/>
                <p:cNvSpPr/>
                <p:nvPr/>
              </p:nvSpPr>
              <p:spPr>
                <a:xfrm>
                  <a:off x="219240" y="3556080"/>
                  <a:ext cx="514296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LRs 2 - 5 </a:t>
                  </a:r>
                  <a:r>
                    <a:rPr b="0" lang="sr-CS" sz="2400" spc="-1" strike="noStrike">
                      <a:solidFill>
                        <a:srgbClr val="000000"/>
                      </a:solidFill>
                      <a:latin typeface="Times New Roman"/>
                    </a:rPr>
                    <a:t>или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 0.2 - 0.5 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Rectangle 20"/>
                <p:cNvSpPr/>
                <p:nvPr/>
              </p:nvSpPr>
              <p:spPr>
                <a:xfrm>
                  <a:off x="219240" y="3556080"/>
                  <a:ext cx="5142960" cy="457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" name="Group 21"/>
              <p:cNvGrpSpPr/>
              <p:nvPr/>
            </p:nvGrpSpPr>
            <p:grpSpPr>
              <a:xfrm>
                <a:off x="5362560" y="3556080"/>
                <a:ext cx="3560760" cy="457200"/>
                <a:chOff x="5362560" y="3556080"/>
                <a:chExt cx="3560760" cy="457200"/>
              </a:xfrm>
            </p:grpSpPr>
            <p:sp>
              <p:nvSpPr>
                <p:cNvPr id="74" name="Rectangle 22"/>
                <p:cNvSpPr/>
                <p:nvPr/>
              </p:nvSpPr>
              <p:spPr>
                <a:xfrm>
                  <a:off x="5362560" y="3556080"/>
                  <a:ext cx="356076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r-CS" sz="2400" spc="-1" strike="noStrike">
                      <a:solidFill>
                        <a:srgbClr val="000000"/>
                      </a:solidFill>
                      <a:latin typeface="Times New Roman"/>
                    </a:rPr>
                    <a:t>Изазива мале промене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" name="Rectangle 23"/>
                <p:cNvSpPr/>
                <p:nvPr/>
              </p:nvSpPr>
              <p:spPr>
                <a:xfrm>
                  <a:off x="5362560" y="3556080"/>
                  <a:ext cx="3560760" cy="457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" name="Group 24"/>
              <p:cNvGrpSpPr/>
              <p:nvPr/>
            </p:nvGrpSpPr>
            <p:grpSpPr>
              <a:xfrm>
                <a:off x="219240" y="4013280"/>
                <a:ext cx="5142960" cy="457200"/>
                <a:chOff x="219240" y="4013280"/>
                <a:chExt cx="5142960" cy="457200"/>
              </a:xfrm>
            </p:grpSpPr>
            <p:sp>
              <p:nvSpPr>
                <p:cNvPr id="77" name="Rectangle 25"/>
                <p:cNvSpPr/>
                <p:nvPr/>
              </p:nvSpPr>
              <p:spPr>
                <a:xfrm>
                  <a:off x="219240" y="4013280"/>
                  <a:ext cx="514296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LRs </a:t>
                  </a:r>
                  <a:r>
                    <a:rPr b="0" lang="sr-CS" sz="2400" spc="-1" strike="noStrike">
                      <a:solidFill>
                        <a:srgbClr val="000000"/>
                      </a:solidFill>
                      <a:latin typeface="Times New Roman"/>
                    </a:rPr>
                    <a:t>мањи од 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2 </a:t>
                  </a:r>
                  <a:r>
                    <a:rPr b="0" lang="sr-CS" sz="2400" spc="-1" strike="noStrike">
                      <a:solidFill>
                        <a:srgbClr val="000000"/>
                      </a:solidFill>
                      <a:latin typeface="Times New Roman"/>
                    </a:rPr>
                    <a:t>или већи од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 0.5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Rectangle 26"/>
                <p:cNvSpPr/>
                <p:nvPr/>
              </p:nvSpPr>
              <p:spPr>
                <a:xfrm>
                  <a:off x="219240" y="4013280"/>
                  <a:ext cx="5142960" cy="457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" name="Group 27"/>
              <p:cNvGrpSpPr/>
              <p:nvPr/>
            </p:nvGrpSpPr>
            <p:grpSpPr>
              <a:xfrm>
                <a:off x="5362560" y="4013280"/>
                <a:ext cx="3560760" cy="457200"/>
                <a:chOff x="5362560" y="4013280"/>
                <a:chExt cx="3560760" cy="457200"/>
              </a:xfrm>
            </p:grpSpPr>
            <p:sp>
              <p:nvSpPr>
                <p:cNvPr id="80" name="Rectangle 28"/>
                <p:cNvSpPr/>
                <p:nvPr/>
              </p:nvSpPr>
              <p:spPr>
                <a:xfrm>
                  <a:off x="5362560" y="4013280"/>
                  <a:ext cx="356076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r-CS" sz="2400" spc="-1" strike="noStrike">
                      <a:solidFill>
                        <a:srgbClr val="000000"/>
                      </a:solidFill>
                      <a:latin typeface="Times New Roman"/>
                    </a:rPr>
                    <a:t>Изазива незнатне пром.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" name="Rectangle 29"/>
                <p:cNvSpPr/>
                <p:nvPr/>
              </p:nvSpPr>
              <p:spPr>
                <a:xfrm>
                  <a:off x="5362560" y="4013280"/>
                  <a:ext cx="3560760" cy="457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" name="Group 30"/>
              <p:cNvGrpSpPr/>
              <p:nvPr/>
            </p:nvGrpSpPr>
            <p:grpSpPr>
              <a:xfrm>
                <a:off x="219240" y="4470480"/>
                <a:ext cx="5142960" cy="457200"/>
                <a:chOff x="219240" y="4470480"/>
                <a:chExt cx="5142960" cy="457200"/>
              </a:xfrm>
            </p:grpSpPr>
            <p:sp>
              <p:nvSpPr>
                <p:cNvPr id="83" name="Rectangle 31"/>
                <p:cNvSpPr/>
                <p:nvPr/>
              </p:nvSpPr>
              <p:spPr>
                <a:xfrm>
                  <a:off x="219240" y="4470480"/>
                  <a:ext cx="514296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LRs = 1.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Rectangle 32"/>
                <p:cNvSpPr/>
                <p:nvPr/>
              </p:nvSpPr>
              <p:spPr>
                <a:xfrm>
                  <a:off x="219240" y="4470480"/>
                  <a:ext cx="5142960" cy="457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" name="Group 33"/>
              <p:cNvGrpSpPr/>
              <p:nvPr/>
            </p:nvGrpSpPr>
            <p:grpSpPr>
              <a:xfrm>
                <a:off x="5362560" y="4470480"/>
                <a:ext cx="3560760" cy="457200"/>
                <a:chOff x="5362560" y="4470480"/>
                <a:chExt cx="3560760" cy="457200"/>
              </a:xfrm>
            </p:grpSpPr>
            <p:sp>
              <p:nvSpPr>
                <p:cNvPr id="86" name="Rectangle 34"/>
                <p:cNvSpPr/>
                <p:nvPr/>
              </p:nvSpPr>
              <p:spPr>
                <a:xfrm>
                  <a:off x="5362560" y="4470480"/>
                  <a:ext cx="356076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r-CS" sz="2400" spc="-1" strike="noStrike">
                      <a:solidFill>
                        <a:srgbClr val="000000"/>
                      </a:solidFill>
                      <a:latin typeface="Times New Roman"/>
                    </a:rPr>
                    <a:t>Не изазива промене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Rectangle 35"/>
                <p:cNvSpPr/>
                <p:nvPr/>
              </p:nvSpPr>
              <p:spPr>
                <a:xfrm>
                  <a:off x="5362560" y="4470480"/>
                  <a:ext cx="3560760" cy="457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8" name="Rectangle 36"/>
            <p:cNvSpPr/>
            <p:nvPr/>
          </p:nvSpPr>
          <p:spPr>
            <a:xfrm>
              <a:off x="214200" y="2637000"/>
              <a:ext cx="8715240" cy="229536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0T21:18:48Z</dcterms:created>
  <dc:creator>Slobodan Jankovic</dc:creator>
  <dc:description/>
  <dc:language>en-US</dc:language>
  <cp:lastModifiedBy>Slobodan Jankovic</cp:lastModifiedBy>
  <dcterms:modified xsi:type="dcterms:W3CDTF">2013-01-27T13:47:02Z</dcterms:modified>
  <cp:revision>56</cp:revision>
  <dc:subject/>
  <dc:title>Slide 1</dc:title>
</cp:coreProperties>
</file>